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6A05-8893-4ED8-ACE4-11234D8FB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nakes and ladders style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4909-4F0B-4002-BD9C-D628E373F6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6EB-0471-4FE2-A299-D9BF04F2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B70-859C-4C46-82BC-910339B0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1E6-4447-47F1-A469-B5C8B28E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CA9-A1A9-465C-A686-F211F3D7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ECE-B8BE-4740-BB7C-A07D9677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BEB-AC3C-41A6-BB00-7848A900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4B8-F158-4747-A9A8-0D164874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2D5-8776-43BF-A21D-CC29826F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66A-C60C-471A-B07E-C276FC41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5D0-B65B-46E7-BA84-7A1A8FF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6D8-0422-4C6C-ABCA-CC2B436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CF2-3DF4-4CB0-B59D-4663070C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E7C8-9B54-4B34-B2FF-C73FBE2BC0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ohn.kenwright@grenoble-inp.fr" TargetMode="External"/><Relationship Id="rId5" Type="http://schemas.openxmlformats.org/officeDocument/2006/relationships/hyperlink" Target="http://game2learn.grenoble-inp.fr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230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Pass</a:t>
            </a:r>
            <a:r>
              <a:rPr b="0" lang="fr-FR" sz="8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81080" y="1557360"/>
            <a:ext cx="2662200" cy="3311640"/>
          </a:xfrm>
          <a:custGeom>
            <a:avLst/>
            <a:gdLst>
              <a:gd name="textAreaLeft" fmla="*/ 129960 w 2662200"/>
              <a:gd name="textAreaRight" fmla="*/ 2532240 w 2662200"/>
              <a:gd name="textAreaTop" fmla="*/ 129960 h 3311640"/>
              <a:gd name="textAreaBottom" fmla="*/ 3181680 h 3311640"/>
            </a:gdLst>
            <a:ahLst/>
            <a:rect l="textAreaLeft" t="textAreaTop" r="textAreaRight" b="textAreaBottom"/>
            <a:pathLst>
              <a:path w="21600" h="26869">
                <a:moveTo>
                  <a:pt x="3600" y="0"/>
                </a:moveTo>
                <a:arcTo wR="3600" hR="3600" stAng="16200000" swAng="-5400000"/>
                <a:lnTo>
                  <a:pt x="0" y="23269"/>
                </a:lnTo>
                <a:arcTo wR="3600" hR="3600" stAng="10800000" swAng="-5400000"/>
                <a:lnTo>
                  <a:pt x="18000" y="26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2920" y="222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5"/>
          <p:cNvSpPr/>
          <p:nvPr/>
        </p:nvSpPr>
        <p:spPr>
          <a:xfrm>
            <a:off x="6443640" y="1628640"/>
            <a:ext cx="2449440" cy="3240360"/>
          </a:xfrm>
          <a:custGeom>
            <a:avLst/>
            <a:gdLst>
              <a:gd name="textAreaLeft" fmla="*/ 119520 w 2449440"/>
              <a:gd name="textAreaRight" fmla="*/ 2329920 w 2449440"/>
              <a:gd name="textAreaTop" fmla="*/ 119520 h 3240360"/>
              <a:gd name="textAreaBottom" fmla="*/ 3120840 h 3240360"/>
            </a:gdLst>
            <a:ahLst/>
            <a:rect l="textAreaLeft" t="textAreaTop" r="textAreaRight" b="textAreaBottom"/>
            <a:pathLst>
              <a:path w="21600" h="28574">
                <a:moveTo>
                  <a:pt x="3600" y="0"/>
                </a:moveTo>
                <a:arcTo wR="3600" hR="3600" stAng="16200000" swAng="-5400000"/>
                <a:lnTo>
                  <a:pt x="0" y="24974"/>
                </a:lnTo>
                <a:arcTo wR="3600" hR="3600" stAng="10800000" swAng="-5400000"/>
                <a:lnTo>
                  <a:pt x="18000" y="285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6627960" y="2514600"/>
            <a:ext cx="2081160" cy="1558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 rot="5400000">
            <a:off x="1353600" y="212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Calibri"/>
                <a:ea typeface="Arial"/>
              </a:rPr>
              <a:t>Act   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6676920" y="5492880"/>
            <a:ext cx="2049480" cy="13064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1"/>
          <p:cNvSpPr/>
          <p:nvPr/>
        </p:nvSpPr>
        <p:spPr>
          <a:xfrm>
            <a:off x="179280" y="5940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By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Info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game2learn.grenoble-inp.f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xpl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à coins arrondis 60"/>
          <p:cNvSpPr/>
          <p:nvPr/>
        </p:nvSpPr>
        <p:spPr>
          <a:xfrm>
            <a:off x="1641600" y="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c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87368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407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4"/>
          <a:stretch/>
        </p:blipFill>
        <p:spPr>
          <a:xfrm>
            <a:off x="190512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3336840" y="51847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6"/>
          <a:stretch/>
        </p:blipFill>
        <p:spPr>
          <a:xfrm>
            <a:off x="4871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638028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8"/>
          <a:stretch/>
        </p:blipFill>
        <p:spPr>
          <a:xfrm>
            <a:off x="787572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9"/>
          <a:stretch/>
        </p:blipFill>
        <p:spPr>
          <a:xfrm>
            <a:off x="6380280" y="516744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10"/>
          <a:stretch/>
        </p:blipFill>
        <p:spPr>
          <a:xfrm>
            <a:off x="7875720" y="516744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63360" y="-519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16000" y="-36684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368280" y="-2142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9" descr=""/>
          <p:cNvPicPr/>
          <p:nvPr/>
        </p:nvPicPr>
        <p:blipFill>
          <a:blip r:embed="rId11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à coins arrondis 26"/>
          <p:cNvSpPr/>
          <p:nvPr/>
        </p:nvSpPr>
        <p:spPr>
          <a:xfrm>
            <a:off x="1569960" y="363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arc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u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Fre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kate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es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ngu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o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cc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hie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3"/>
          <a:stretch/>
        </p:blipFill>
        <p:spPr>
          <a:xfrm>
            <a:off x="486576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4"/>
          <a:stretch/>
        </p:blipFill>
        <p:spPr>
          <a:xfrm>
            <a:off x="635652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5"/>
          <a:stretch/>
        </p:blipFill>
        <p:spPr>
          <a:xfrm>
            <a:off x="785988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6"/>
          <a:stretch/>
        </p:blipFill>
        <p:spPr>
          <a:xfrm>
            <a:off x="38412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7"/>
          <a:stretch/>
        </p:blipFill>
        <p:spPr>
          <a:xfrm>
            <a:off x="18813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3368520" y="5189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"/>
          <p:cNvPicPr/>
          <p:nvPr/>
        </p:nvPicPr>
        <p:blipFill>
          <a:blip r:embed="rId9"/>
          <a:stretch/>
        </p:blipFill>
        <p:spPr>
          <a:xfrm>
            <a:off x="48657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10"/>
          <a:stretch/>
        </p:blipFill>
        <p:spPr>
          <a:xfrm>
            <a:off x="6356520" y="51814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11"/>
          <a:stretch/>
        </p:blipFill>
        <p:spPr>
          <a:xfrm>
            <a:off x="7859880" y="5181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ssive Activ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01640" y="14954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0a0"/>
                </a:solidFill>
                <a:latin typeface="Calibri"/>
              </a:rPr>
              <a:t>Objectiv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ing passive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e all of your ca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You need cards (action and noun cards) and a pencil + 1 scorecard per table to keep track of the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10-15 minutes playing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55440" y="115920"/>
            <a:ext cx="1440000" cy="223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499">
                <a:moveTo>
                  <a:pt x="3600" y="0"/>
                </a:moveTo>
                <a:arcTo wR="3600" hR="3600" stAng="16200000" swAng="-5400000"/>
                <a:lnTo>
                  <a:pt x="0" y="29899"/>
                </a:lnTo>
                <a:arcTo wR="3600" hR="3600" stAng="10800000" swAng="-5400000"/>
                <a:lnTo>
                  <a:pt x="18000" y="33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81080" y="638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8"/>
          <p:cNvSpPr/>
          <p:nvPr/>
        </p:nvSpPr>
        <p:spPr>
          <a:xfrm>
            <a:off x="7596360" y="115920"/>
            <a:ext cx="1439640" cy="223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507">
                <a:moveTo>
                  <a:pt x="3600" y="0"/>
                </a:moveTo>
                <a:arcTo wR="3600" hR="3600" stAng="16200000" swAng="-5400000"/>
                <a:lnTo>
                  <a:pt x="0" y="29907"/>
                </a:lnTo>
                <a:arcTo wR="3600" hR="3600" stAng="10800000" swAng="-5400000"/>
                <a:lnTo>
                  <a:pt x="18000" y="33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7640640" y="7714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066000" y="5699160"/>
            <a:ext cx="7635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à coins arrondis 9"/>
          <p:cNvSpPr/>
          <p:nvPr/>
        </p:nvSpPr>
        <p:spPr>
          <a:xfrm>
            <a:off x="3287880" y="5699160"/>
            <a:ext cx="779400" cy="969840"/>
          </a:xfrm>
          <a:custGeom>
            <a:avLst/>
            <a:gdLst>
              <a:gd name="textAreaLeft" fmla="*/ 37800 w 779400"/>
              <a:gd name="textAreaRight" fmla="*/ 741600 w 779400"/>
              <a:gd name="textAreaTop" fmla="*/ 37800 h 969840"/>
              <a:gd name="textAreaBottom" fmla="*/ 932040 h 969840"/>
            </a:gdLst>
            <a:ahLst/>
            <a:rect l="textAreaLeft" t="textAreaTop" r="textAreaRight" b="textAreaBottom"/>
            <a:pathLst>
              <a:path w="21600" h="26875">
                <a:moveTo>
                  <a:pt x="3600" y="0"/>
                </a:moveTo>
                <a:arcTo wR="3600" hR="3600" stAng="16200000" swAng="-5400000"/>
                <a:lnTo>
                  <a:pt x="0" y="23275"/>
                </a:lnTo>
                <a:arcTo wR="3600" hR="3600" stAng="10800000" swAng="-5400000"/>
                <a:lnTo>
                  <a:pt x="18000" y="26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3430440" y="5840280"/>
            <a:ext cx="588960" cy="6937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11"/>
          <p:cNvSpPr/>
          <p:nvPr/>
        </p:nvSpPr>
        <p:spPr>
          <a:xfrm>
            <a:off x="7236000" y="6083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u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12"/>
          <p:cNvSpPr/>
          <p:nvPr/>
        </p:nvSpPr>
        <p:spPr>
          <a:xfrm>
            <a:off x="4211640" y="6083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Actio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à coins arrondis 1"/>
          <p:cNvGrpSpPr/>
          <p:nvPr/>
        </p:nvGrpSpPr>
        <p:grpSpPr>
          <a:xfrm>
            <a:off x="30240" y="5059440"/>
            <a:ext cx="9034560" cy="1779480"/>
            <a:chOff x="30240" y="5059440"/>
            <a:chExt cx="9034560" cy="1779480"/>
          </a:xfrm>
        </p:grpSpPr>
        <p:pic>
          <p:nvPicPr>
            <p:cNvPr id="68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30240" y="5059440"/>
              <a:ext cx="9034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9680" y="5168880"/>
              <a:ext cx="881208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4400" y="1247760"/>
            <a:ext cx="8445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plit the class into 3-4 groups of 4-6 students: each group around 1 t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ivide your 2 decks of cards (actions/nouns) evenly over the number of playing ta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al out a mixture of the cards (face down) to all the play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o-one may show their deck of cards to any of the other play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yers « play » their cards by constructing coherent passive sentences using the action + noun cards . Sentences are accepted or rejected by a group vote each time a card is used. All accepted examples should be written on the score card to be checked by your teacher.*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You will have to add extra words into your sentences when playing cards to form coherent passive sentence structures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objective is for you to use your cards first and win the most poi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Placed card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(RUN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. You « play » (MEETING 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NOU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and say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 The meeting </a:t>
            </a:r>
            <a:r>
              <a:rPr b="1" lang="fr-FR" sz="1600" spc="-1" strike="noStrike" u="sng">
                <a:solidFill>
                  <a:srgbClr val="ff0000"/>
                </a:solidFill>
                <a:uFillTx/>
                <a:latin typeface="Calibri"/>
              </a:rPr>
              <a:t>was ru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by the new manager » CORR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I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ra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to the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meeting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 » =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INCORRECT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as it is not a passive form 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</a:rPr>
              <a:t>Scoring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2 points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er correct example – the person who wins the point must write the sentence down on the scorecard (or you can assign a secretary .. ).This is important to be checked by the teacher afterwards AND spelling etc .. AS WELL AS a trace of different forms and ten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4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s for cheating = not saying the sentenc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you play your card.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Students deci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 for bad spelling or conjugation –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eacher deci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4"/>
          <p:cNvSpPr/>
          <p:nvPr/>
        </p:nvSpPr>
        <p:spPr>
          <a:xfrm>
            <a:off x="55440" y="115920"/>
            <a:ext cx="916200" cy="1168200"/>
          </a:xfrm>
          <a:custGeom>
            <a:avLst/>
            <a:gdLst>
              <a:gd name="textAreaLeft" fmla="*/ 44640 w 916200"/>
              <a:gd name="textAreaRight" fmla="*/ 871560 w 916200"/>
              <a:gd name="textAreaTop" fmla="*/ 44640 h 1168200"/>
              <a:gd name="textAreaBottom" fmla="*/ 1123560 h 1168200"/>
            </a:gdLst>
            <a:ahLst/>
            <a:rect l="textAreaLeft" t="textAreaTop" r="textAreaRight" b="textAreaBottom"/>
            <a:pathLst>
              <a:path w="21600" h="27539">
                <a:moveTo>
                  <a:pt x="3600" y="0"/>
                </a:moveTo>
                <a:arcTo wR="3600" hR="3600" stAng="16200000" swAng="-5400000"/>
                <a:lnTo>
                  <a:pt x="0" y="23939"/>
                </a:lnTo>
                <a:arcTo wR="3600" hR="3600" stAng="10800000" swAng="-5400000"/>
                <a:lnTo>
                  <a:pt x="18000" y="27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54080" y="287280"/>
            <a:ext cx="703080" cy="701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à coins arrondis 6"/>
          <p:cNvSpPr/>
          <p:nvPr/>
        </p:nvSpPr>
        <p:spPr>
          <a:xfrm>
            <a:off x="8172360" y="115920"/>
            <a:ext cx="863640" cy="116820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168200"/>
              <a:gd name="textAreaBottom" fmla="*/ 1126080 h 116820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8345520" y="36972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Rectangle à coins arrondis 1"/>
          <p:cNvGrpSpPr/>
          <p:nvPr/>
        </p:nvGrpSpPr>
        <p:grpSpPr>
          <a:xfrm>
            <a:off x="55440" y="878040"/>
            <a:ext cx="9082080" cy="3157560"/>
            <a:chOff x="55440" y="878040"/>
            <a:chExt cx="9082080" cy="3157560"/>
          </a:xfrm>
        </p:grpSpPr>
        <p:pic>
          <p:nvPicPr>
            <p:cNvPr id="77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55440" y="878040"/>
              <a:ext cx="908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35080" y="1058760"/>
              <a:ext cx="8723160" cy="27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0600" y="527040"/>
            <a:ext cx="9036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 youngest player star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nd then you rotate clockw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Specific ru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may not speak unless you are playing a card or contesting a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must say your sentence out aloud </a:t>
            </a:r>
            <a:r>
              <a:rPr b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AS SOON AS YOU PLACE YOUR CARD 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to play .. Otherwise you are cheating 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cannot repeat the same form/tense as the previous 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can/should add extra nouns/verbs/adjectives/adverbs etc.. to make the sentences more coherent./co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f you have a joker card you can suggest any word you think of from that category (noun or action) to make your sent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f your cards (action or noun) and «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la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 it on the table for all to see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x: Window (nou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e first player to </a:t>
            </a:r>
            <a:r>
              <a:rPr b="1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« play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 complementary card and then give a coherent/ acceptable sentenc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ch uses both cards  (yours and his)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s 2 points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annot play against your own card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: You play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eak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ction) = sentence : « T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indow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may have been*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oke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by the wind 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* Encourage varied forms and tenses of mo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à coins arrondis 4"/>
          <p:cNvSpPr/>
          <p:nvPr/>
        </p:nvSpPr>
        <p:spPr>
          <a:xfrm>
            <a:off x="84240" y="47520"/>
            <a:ext cx="371520" cy="5018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1840"/>
              <a:gd name="textAreaBottom" fmla="*/ 483840 h 501840"/>
            </a:gdLst>
            <a:ahLst/>
            <a:rect l="textAreaLeft" t="textAreaTop" r="textAreaRight" b="textAreaBottom"/>
            <a:pathLst>
              <a:path w="21600" h="29169">
                <a:moveTo>
                  <a:pt x="3600" y="0"/>
                </a:moveTo>
                <a:arcTo wR="3600" hR="3600" stAng="16200000" swAng="-5400000"/>
                <a:lnTo>
                  <a:pt x="0" y="25569"/>
                </a:lnTo>
                <a:arcTo wR="3600" hR="3600" stAng="10800000" swAng="-5400000"/>
                <a:lnTo>
                  <a:pt x="18000" y="29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27080" y="138240"/>
            <a:ext cx="306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à coins arrondis 1"/>
          <p:cNvGrpSpPr/>
          <p:nvPr/>
        </p:nvGrpSpPr>
        <p:grpSpPr>
          <a:xfrm>
            <a:off x="109440" y="1962000"/>
            <a:ext cx="9004320" cy="3225960"/>
            <a:chOff x="109440" y="1962000"/>
            <a:chExt cx="9004320" cy="3225960"/>
          </a:xfrm>
        </p:grpSpPr>
        <p:pic>
          <p:nvPicPr>
            <p:cNvPr id="85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109440" y="1962000"/>
              <a:ext cx="900432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0520" y="2143080"/>
              <a:ext cx="8643960" cy="28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cher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Espace réservé du contenu 2"/>
          <p:cNvGrpSpPr/>
          <p:nvPr/>
        </p:nvGrpSpPr>
        <p:grpSpPr>
          <a:xfrm>
            <a:off x="-19080" y="822240"/>
            <a:ext cx="9144000" cy="6005520"/>
            <a:chOff x="-19080" y="822240"/>
            <a:chExt cx="9144000" cy="6005520"/>
          </a:xfrm>
        </p:grpSpPr>
        <p:pic>
          <p:nvPicPr>
            <p:cNvPr id="89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-19080" y="822240"/>
              <a:ext cx="91440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836640"/>
              <a:ext cx="910908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ou can set a 5-minute timer per group and then students change tables to discover different cards. Reshuffle and deal the cards and start agai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You can make the game more difficult 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mposing the rule that </a:t>
              </a: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you may not use the same modal form twice in a row and/or more than 3 times during a gam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Forcing students to play 2 cards against a placed car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Removing the action cards thus imposing students to find their own verbs : you must also not allow the same verbs to be used twi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Having 2 central packs on the table ( ACTION pack + NOUN pack)  and no dealt cards. In turns players turn over one of each and the first person to create a coherent sentence win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It is advisable to study passive forms BEFORE playing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For weaker students you can place a FORMS &amp; TENSES grid on each table – download one off the ne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Be sure to observe, guide and decide on points. Keep a track on difficult words for feedback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4"/>
          <p:cNvSpPr/>
          <p:nvPr/>
        </p:nvSpPr>
        <p:spPr>
          <a:xfrm>
            <a:off x="93600" y="108000"/>
            <a:ext cx="371520" cy="5000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0040"/>
              <a:gd name="textAreaBottom" fmla="*/ 482040 h 500040"/>
            </a:gdLst>
            <a:ahLst/>
            <a:rect l="textAreaLeft" t="textAreaTop" r="textAreaRight" b="textAreaBottom"/>
            <a:pathLst>
              <a:path w="21600" h="29065">
                <a:moveTo>
                  <a:pt x="3600" y="0"/>
                </a:moveTo>
                <a:arcTo wR="3600" hR="3600" stAng="16200000" swAng="-5400000"/>
                <a:lnTo>
                  <a:pt x="0" y="25465"/>
                </a:lnTo>
                <a:arcTo wR="3600" hR="3600" stAng="10800000" swAng="-5400000"/>
                <a:lnTo>
                  <a:pt x="18000" y="29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136440" y="17136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contenu 2"/>
          <p:cNvSpPr/>
          <p:nvPr/>
        </p:nvSpPr>
        <p:spPr>
          <a:xfrm>
            <a:off x="34920" y="-49320"/>
            <a:ext cx="2243160" cy="66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oy work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 express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l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up the sear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 pe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 out pres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jure accid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gu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leach pulp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ectangle 3"/>
          <p:cNvGrpSpPr/>
          <p:nvPr/>
        </p:nvGrpSpPr>
        <p:grpSpPr>
          <a:xfrm>
            <a:off x="1663560" y="-19080"/>
            <a:ext cx="7473960" cy="6870600"/>
            <a:chOff x="1663560" y="-19080"/>
            <a:chExt cx="7473960" cy="6870600"/>
          </a:xfrm>
        </p:grpSpPr>
        <p:pic>
          <p:nvPicPr>
            <p:cNvPr id="96" name="Rectangle 3" descr=""/>
            <p:cNvPicPr/>
            <p:nvPr/>
          </p:nvPicPr>
          <p:blipFill>
            <a:blip r:embed="rId1"/>
            <a:stretch/>
          </p:blipFill>
          <p:spPr>
            <a:xfrm>
              <a:off x="1663560" y="-19080"/>
              <a:ext cx="74739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92360" y="9360"/>
              <a:ext cx="7416720" cy="68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Follow-up to Active Passive game- </a:t>
              </a:r>
              <a:r>
                <a:rPr b="0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3 teams per board – pawns needed use board on following slide. – A3 size prefer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lo mode or 2 players per team. Students must create passive sentences using the nouns and verbs in the colum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oldest player starts (then clockwi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oll the dice (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ex/ 4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) – you move your pawn to that number and you must create a sentence with 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BITE + CAT 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Note it down on the scorecard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 +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the colour code . Ne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xt team/player’s tur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Next player rolls the dice and moves onwards from number 4. Ex S/he rolls 6 </a:t>
              </a: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N° 10 = Detonate bomb. Etc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first team to get to the red square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ND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have answered a question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of each colour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i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me squares have powers. Red arrow transports you down. A green border takes you to the next green border sqaur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dditional rule: The game can be made harder by using 2 dice (one for the words and another for the tenses/forms) * see belo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1= PRESENT  ‘is improved / i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2= SIMPLE PAST ‘was improved/ wa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3= FUTURE ‘will be improved/will be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4= PRESENT PERFECT ‘has/have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5=PAST PERFECT ‘had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6 = INFINTIVE ‘To be improved / to have been improved ’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3"/>
          <p:cNvSpPr/>
          <p:nvPr/>
        </p:nvSpPr>
        <p:spPr>
          <a:xfrm>
            <a:off x="2556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à coins arrondis 4"/>
          <p:cNvSpPr/>
          <p:nvPr/>
        </p:nvSpPr>
        <p:spPr>
          <a:xfrm>
            <a:off x="11858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à coins arrondis 5"/>
          <p:cNvSpPr/>
          <p:nvPr/>
        </p:nvSpPr>
        <p:spPr>
          <a:xfrm>
            <a:off x="23256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6"/>
          <p:cNvSpPr/>
          <p:nvPr/>
        </p:nvSpPr>
        <p:spPr>
          <a:xfrm>
            <a:off x="34862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à coins arrondis 7"/>
          <p:cNvSpPr/>
          <p:nvPr/>
        </p:nvSpPr>
        <p:spPr>
          <a:xfrm>
            <a:off x="46260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8"/>
          <p:cNvSpPr/>
          <p:nvPr/>
        </p:nvSpPr>
        <p:spPr>
          <a:xfrm>
            <a:off x="5786280" y="18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à coins arrondis 9"/>
          <p:cNvSpPr/>
          <p:nvPr/>
        </p:nvSpPr>
        <p:spPr>
          <a:xfrm>
            <a:off x="6929280" y="1969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à coins arrondis 10"/>
          <p:cNvSpPr/>
          <p:nvPr/>
        </p:nvSpPr>
        <p:spPr>
          <a:xfrm>
            <a:off x="8089920" y="19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11"/>
          <p:cNvSpPr/>
          <p:nvPr/>
        </p:nvSpPr>
        <p:spPr>
          <a:xfrm>
            <a:off x="3492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12"/>
          <p:cNvSpPr/>
          <p:nvPr/>
        </p:nvSpPr>
        <p:spPr>
          <a:xfrm>
            <a:off x="11955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13"/>
          <p:cNvSpPr/>
          <p:nvPr/>
        </p:nvSpPr>
        <p:spPr>
          <a:xfrm>
            <a:off x="23367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à coins arrondis 14"/>
          <p:cNvSpPr/>
          <p:nvPr/>
        </p:nvSpPr>
        <p:spPr>
          <a:xfrm>
            <a:off x="34974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à coins arrondis 15"/>
          <p:cNvSpPr/>
          <p:nvPr/>
        </p:nvSpPr>
        <p:spPr>
          <a:xfrm>
            <a:off x="4635360" y="12603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à coins arrondis 16"/>
          <p:cNvSpPr/>
          <p:nvPr/>
        </p:nvSpPr>
        <p:spPr>
          <a:xfrm>
            <a:off x="57960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17"/>
          <p:cNvSpPr/>
          <p:nvPr/>
        </p:nvSpPr>
        <p:spPr>
          <a:xfrm>
            <a:off x="694044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18"/>
          <p:cNvSpPr/>
          <p:nvPr/>
        </p:nvSpPr>
        <p:spPr>
          <a:xfrm>
            <a:off x="810108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19"/>
          <p:cNvSpPr/>
          <p:nvPr/>
        </p:nvSpPr>
        <p:spPr>
          <a:xfrm>
            <a:off x="2556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à coins arrondis 20"/>
          <p:cNvSpPr/>
          <p:nvPr/>
        </p:nvSpPr>
        <p:spPr>
          <a:xfrm>
            <a:off x="11858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à coins arrondis 21"/>
          <p:cNvSpPr/>
          <p:nvPr/>
        </p:nvSpPr>
        <p:spPr>
          <a:xfrm>
            <a:off x="23256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à coins arrondis 22"/>
          <p:cNvSpPr/>
          <p:nvPr/>
        </p:nvSpPr>
        <p:spPr>
          <a:xfrm>
            <a:off x="34862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23"/>
          <p:cNvSpPr/>
          <p:nvPr/>
        </p:nvSpPr>
        <p:spPr>
          <a:xfrm>
            <a:off x="46260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à coins arrondis 24"/>
          <p:cNvSpPr/>
          <p:nvPr/>
        </p:nvSpPr>
        <p:spPr>
          <a:xfrm>
            <a:off x="5786280" y="2349360"/>
            <a:ext cx="1008360" cy="100836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à coins arrondis 25"/>
          <p:cNvSpPr/>
          <p:nvPr/>
        </p:nvSpPr>
        <p:spPr>
          <a:xfrm>
            <a:off x="6929280" y="235584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26"/>
          <p:cNvSpPr/>
          <p:nvPr/>
        </p:nvSpPr>
        <p:spPr>
          <a:xfrm>
            <a:off x="8089920" y="23558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leach pul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à coins arrondis 27"/>
          <p:cNvSpPr/>
          <p:nvPr/>
        </p:nvSpPr>
        <p:spPr>
          <a:xfrm>
            <a:off x="1908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vite g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28"/>
          <p:cNvSpPr/>
          <p:nvPr/>
        </p:nvSpPr>
        <p:spPr>
          <a:xfrm>
            <a:off x="1179360" y="342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jure acci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à coins arrondis 29"/>
          <p:cNvSpPr/>
          <p:nvPr/>
        </p:nvSpPr>
        <p:spPr>
          <a:xfrm>
            <a:off x="23209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Hand out pres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à coins arrondis 30"/>
          <p:cNvSpPr/>
          <p:nvPr/>
        </p:nvSpPr>
        <p:spPr>
          <a:xfrm>
            <a:off x="34815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row p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à coins arrondis 31"/>
          <p:cNvSpPr/>
          <p:nvPr/>
        </p:nvSpPr>
        <p:spPr>
          <a:xfrm>
            <a:off x="46195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ive up the 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à coins arrondis 32"/>
          <p:cNvSpPr/>
          <p:nvPr/>
        </p:nvSpPr>
        <p:spPr>
          <a:xfrm>
            <a:off x="57801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d 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33"/>
          <p:cNvSpPr/>
          <p:nvPr/>
        </p:nvSpPr>
        <p:spPr>
          <a:xfrm>
            <a:off x="692460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ain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à coins arrondis 34"/>
          <p:cNvSpPr/>
          <p:nvPr/>
        </p:nvSpPr>
        <p:spPr>
          <a:xfrm>
            <a:off x="808524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Employ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35"/>
          <p:cNvSpPr/>
          <p:nvPr/>
        </p:nvSpPr>
        <p:spPr>
          <a:xfrm>
            <a:off x="30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à coins arrondis 36"/>
          <p:cNvSpPr/>
          <p:nvPr/>
        </p:nvSpPr>
        <p:spPr>
          <a:xfrm>
            <a:off x="1190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à coins arrondis 37"/>
          <p:cNvSpPr/>
          <p:nvPr/>
        </p:nvSpPr>
        <p:spPr>
          <a:xfrm>
            <a:off x="2330280" y="45021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38"/>
          <p:cNvSpPr/>
          <p:nvPr/>
        </p:nvSpPr>
        <p:spPr>
          <a:xfrm>
            <a:off x="34909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à coins arrondis 39"/>
          <p:cNvSpPr/>
          <p:nvPr/>
        </p:nvSpPr>
        <p:spPr>
          <a:xfrm>
            <a:off x="4629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40"/>
          <p:cNvSpPr/>
          <p:nvPr/>
        </p:nvSpPr>
        <p:spPr>
          <a:xfrm>
            <a:off x="5789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à coins arrondis 41"/>
          <p:cNvSpPr/>
          <p:nvPr/>
        </p:nvSpPr>
        <p:spPr>
          <a:xfrm>
            <a:off x="693432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à coins arrondis 42"/>
          <p:cNvSpPr/>
          <p:nvPr/>
        </p:nvSpPr>
        <p:spPr>
          <a:xfrm>
            <a:off x="809460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3"/>
          <p:cNvSpPr/>
          <p:nvPr/>
        </p:nvSpPr>
        <p:spPr>
          <a:xfrm>
            <a:off x="1908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à coins arrondis 44"/>
          <p:cNvSpPr/>
          <p:nvPr/>
        </p:nvSpPr>
        <p:spPr>
          <a:xfrm>
            <a:off x="1179360" y="55897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à coins arrondis 45"/>
          <p:cNvSpPr/>
          <p:nvPr/>
        </p:nvSpPr>
        <p:spPr>
          <a:xfrm>
            <a:off x="23209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6"/>
          <p:cNvSpPr/>
          <p:nvPr/>
        </p:nvSpPr>
        <p:spPr>
          <a:xfrm>
            <a:off x="34815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47"/>
          <p:cNvSpPr/>
          <p:nvPr/>
        </p:nvSpPr>
        <p:spPr>
          <a:xfrm>
            <a:off x="46195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à coins arrondis 48"/>
          <p:cNvSpPr/>
          <p:nvPr/>
        </p:nvSpPr>
        <p:spPr>
          <a:xfrm>
            <a:off x="57801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49"/>
          <p:cNvSpPr/>
          <p:nvPr/>
        </p:nvSpPr>
        <p:spPr>
          <a:xfrm>
            <a:off x="692460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50"/>
          <p:cNvSpPr/>
          <p:nvPr/>
        </p:nvSpPr>
        <p:spPr>
          <a:xfrm>
            <a:off x="808524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52"/>
          <p:cNvCxnSpPr/>
          <p:nvPr/>
        </p:nvCxnSpPr>
        <p:spPr>
          <a:xfrm>
            <a:off x="5508360" y="2133720"/>
            <a:ext cx="158508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Connecteur droit avec flèche 53"/>
          <p:cNvCxnSpPr/>
          <p:nvPr/>
        </p:nvCxnSpPr>
        <p:spPr>
          <a:xfrm>
            <a:off x="892080" y="3187800"/>
            <a:ext cx="2743920" cy="1465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55"/>
          <p:cNvCxnSpPr/>
          <p:nvPr/>
        </p:nvCxnSpPr>
        <p:spPr>
          <a:xfrm>
            <a:off x="1999800" y="1009800"/>
            <a:ext cx="1204200" cy="112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Connecteur droit avec flèche 57"/>
          <p:cNvCxnSpPr>
            <a:stCxn id="104" idx="2"/>
          </p:cNvCxnSpPr>
          <p:nvPr/>
        </p:nvCxnSpPr>
        <p:spPr>
          <a:xfrm>
            <a:off x="7434000" y="1204920"/>
            <a:ext cx="810360" cy="344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Flèche droite 59"/>
          <p:cNvSpPr/>
          <p:nvPr/>
        </p:nvSpPr>
        <p:spPr>
          <a:xfrm rot="16200000">
            <a:off x="287280" y="54403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èche droite 60"/>
          <p:cNvSpPr/>
          <p:nvPr/>
        </p:nvSpPr>
        <p:spPr>
          <a:xfrm rot="16200000">
            <a:off x="8388360" y="4329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èche droite 63"/>
          <p:cNvSpPr/>
          <p:nvPr/>
        </p:nvSpPr>
        <p:spPr>
          <a:xfrm rot="16200000">
            <a:off x="287280" y="3249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èche droite 64"/>
          <p:cNvSpPr/>
          <p:nvPr/>
        </p:nvSpPr>
        <p:spPr>
          <a:xfrm rot="16200000">
            <a:off x="8388360" y="2167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èche droite 65"/>
          <p:cNvSpPr/>
          <p:nvPr/>
        </p:nvSpPr>
        <p:spPr>
          <a:xfrm rot="16200000">
            <a:off x="287280" y="1159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6"/>
          <p:cNvCxnSpPr/>
          <p:nvPr/>
        </p:nvCxnSpPr>
        <p:spPr>
          <a:xfrm>
            <a:off x="2031480" y="5353200"/>
            <a:ext cx="477000" cy="411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ssassin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r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mpl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w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furb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11:49Z</dcterms:created>
  <dc:creator>KENWRIGHT John Francis</dc:creator>
  <dc:description/>
  <dc:language>en-US</dc:language>
  <cp:lastModifiedBy>KENWRIGHT John Francis</cp:lastModifiedBy>
  <cp:lastPrinted>2014-02-24T08:17:37Z</cp:lastPrinted>
  <dcterms:modified xsi:type="dcterms:W3CDTF">2014-02-24T08:18:50Z</dcterms:modified>
  <cp:revision>56</cp:revision>
  <dc:subject/>
  <dc:title>Passive –active cards</dc:title>
</cp:coreProperties>
</file>