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1185-5B5F-4452-9E3F-2ABAB152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4E0-381A-4B9C-ADDE-0C0178171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2BFA-E975-4DEB-A888-49C192B1D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5F9-8C7D-43F8-9878-B4ED806CC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5394-62D0-4C98-9180-16BBF6E73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88F9-5254-4E18-B2BE-E3B2A528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704E-3E15-495D-872C-93B9602B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654-F32D-437C-9389-6AA4FD4D0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977F-BC14-42B9-A0F6-6E80A8E31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17C-DE65-473C-9828-A1C6772F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102E-5EB1-4105-86D2-16372495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AD09-13EC-4810-A749-987F7E2C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A9075-693A-4E77-9E69-692020ED45B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à coins arrondis 3"/>
          <p:cNvSpPr/>
          <p:nvPr/>
        </p:nvSpPr>
        <p:spPr>
          <a:xfrm>
            <a:off x="450072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à coins arrondis 4"/>
          <p:cNvSpPr/>
          <p:nvPr/>
        </p:nvSpPr>
        <p:spPr>
          <a:xfrm>
            <a:off x="6659640" y="4125960"/>
            <a:ext cx="1800000" cy="230328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280"/>
              <a:gd name="textAreaBottom" fmla="*/ 2215440 h 2303280"/>
            </a:gdLst>
            <a:ahLst/>
            <a:rect l="textAreaLeft" t="textAreaTop" r="textAreaRight" b="textAreaBottom"/>
            <a:pathLst>
              <a:path w="21600" h="27638">
                <a:moveTo>
                  <a:pt x="3600" y="0"/>
                </a:moveTo>
                <a:arcTo wR="3600" hR="3600" stAng="16200000" swAng="-5400000"/>
                <a:lnTo>
                  <a:pt x="0" y="24038"/>
                </a:lnTo>
                <a:arcTo wR="3600" hR="3600" stAng="10800000" swAng="-5400000"/>
                <a:lnTo>
                  <a:pt x="18000" y="2763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I disag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à coins arrondis 7"/>
          <p:cNvSpPr/>
          <p:nvPr/>
        </p:nvSpPr>
        <p:spPr>
          <a:xfrm>
            <a:off x="2340000" y="4149720"/>
            <a:ext cx="1800360" cy="2303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37">
                <a:moveTo>
                  <a:pt x="3600" y="0"/>
                </a:moveTo>
                <a:arcTo wR="3600" hR="3600" stAng="16200000" swAng="-5400000"/>
                <a:lnTo>
                  <a:pt x="0" y="24037"/>
                </a:lnTo>
                <a:arcTo wR="3600" hR="3600" stAng="10800000" swAng="-5400000"/>
                <a:lnTo>
                  <a:pt x="18000" y="276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What’s your POV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à coins arrondis 8"/>
          <p:cNvSpPr/>
          <p:nvPr/>
        </p:nvSpPr>
        <p:spPr>
          <a:xfrm>
            <a:off x="324000" y="4149720"/>
            <a:ext cx="1800000" cy="2303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2303640"/>
              <a:gd name="textAreaBottom" fmla="*/ 2215800 h 2303640"/>
            </a:gdLst>
            <a:ahLst/>
            <a:rect l="textAreaLeft" t="textAreaTop" r="textAreaRight" b="textAreaBottom"/>
            <a:pathLst>
              <a:path w="21600" h="27642">
                <a:moveTo>
                  <a:pt x="3600" y="0"/>
                </a:moveTo>
                <a:arcTo wR="3600" hR="3600" stAng="16200000" swAng="-5400000"/>
                <a:lnTo>
                  <a:pt x="0" y="24042"/>
                </a:lnTo>
                <a:arcTo wR="3600" hR="3600" stAng="10800000" swAng="-5400000"/>
                <a:lnTo>
                  <a:pt x="18000" y="2764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y POV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332000" y="1052640"/>
            <a:ext cx="6408720" cy="194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Calibri"/>
              </a:rPr>
              <a:t>Opinion car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724800" y="1197000"/>
            <a:ext cx="99036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"/>
          <p:cNvSpPr/>
          <p:nvPr/>
        </p:nvSpPr>
        <p:spPr>
          <a:xfrm>
            <a:off x="108000" y="0"/>
            <a:ext cx="5040360" cy="836640"/>
          </a:xfrm>
          <a:prstGeom prst="rect">
            <a:avLst/>
          </a:prstGeom>
          <a:solidFill>
            <a:srgbClr val="00b0f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Game design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John.kenwright@grenoble-inp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More games: http://game2learn.grenoble-inp.f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 rot="16200000">
            <a:off x="1380960" y="-1094040"/>
            <a:ext cx="6310440" cy="907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rcRect l="18886" t="11218" r="9009" b="59994"/>
          <a:stretch/>
        </p:blipFill>
        <p:spPr>
          <a:xfrm>
            <a:off x="-108000" y="125280"/>
            <a:ext cx="923292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pringboard stat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merica’s foreign policy is founded on good intention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echnology will lead to the end of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Nothing about today’s music is origina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art phones should carry health warnings and be legal as of 1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sale of human organs should be legalized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ay couples should not be allowed to adopt childre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Genetically modified food is good for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’s 35-hour work week is a bad ide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hether we like it or not we are all fashion victim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France is one of the best places to work in the worl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apitalism is more dangerous than communis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fter the age of 70 you should not be allowed to driv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We should bring retirement age down to 50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n exchange in a foreign country should be made obligatory for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re are too many regulations protecting consum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Religion has done more harm than goo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Smokers should not be protected by the social security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death penalty should be reinstated in certain circumstanc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Children with special needs should not be mainstreamed into the public school system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The French social welfare system is a failur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ame 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56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and acquire opinion expres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hare ideas and be diplomatic and LISTE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in points for yourself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ut also for your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24000" y="239760"/>
            <a:ext cx="122868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tep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ut yourselves into groups of 3-4 student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Evenly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deal out the pack of cards you have been given (face dow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Place them in front of you (face up) 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Calibri"/>
              </a:rPr>
              <a:t>on the table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in front of everyon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Sort them by colour/category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s://encrypted-tbn1.gstatic.com/images?q=tbn:ANd9GcRKn-VL7Wpkn6blMlnkSzepatiU66_ps9Qma_PkEkKy4FSNRuqD"/>
          <p:cNvPicPr/>
          <p:nvPr/>
        </p:nvPicPr>
        <p:blipFill>
          <a:blip r:embed="rId2"/>
          <a:stretch/>
        </p:blipFill>
        <p:spPr>
          <a:xfrm>
            <a:off x="250920" y="260280"/>
            <a:ext cx="1395360" cy="13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Getting start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ose a topic of conversation-see « springboard statements »(last slide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Youngest player starts, then clockw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peak for +-3 mins on the topic OR until someone has used all their cards (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nd wi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– use a timer/smartphon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unt your points (see next slide) When the first statement has been discussed , shuffle and deal out the cards agai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peat until all members have played = 1 r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ot up points and move to the next tab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peat procedur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" descr=""/>
          <p:cNvPicPr/>
          <p:nvPr/>
        </p:nvPicPr>
        <p:blipFill>
          <a:blip r:embed="rId2"/>
          <a:stretch/>
        </p:blipFill>
        <p:spPr>
          <a:xfrm>
            <a:off x="250920" y="179280"/>
            <a:ext cx="13636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oint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ard us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s are accumulated during the 2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ce the 2 rounds have been played each team hands back their cards to the teac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eam memory clash:  who can remember the most fixed expression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will have 5 minutes </a:t>
            </a: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as a team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to write down as many of the key expressions as possib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" descr=""/>
          <p:cNvPicPr/>
          <p:nvPr/>
        </p:nvPicPr>
        <p:blipFill>
          <a:blip r:embed="rId2"/>
          <a:stretch/>
        </p:blipFill>
        <p:spPr>
          <a:xfrm>
            <a:off x="179280" y="92160"/>
            <a:ext cx="154944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dv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Use your expressions wisely – if someone uses a card illogically someone can CALL THEM OUT and a vote proceed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70c0"/>
                </a:solidFill>
                <a:latin typeface="Calibri"/>
              </a:rPr>
              <a:t>If you lose the vote you lose 10 poi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You may use opinion expression not on your cards to force another player to use a card that facilitates the flow of the game (or your remaining cards .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s://encrypted-tbn1.gstatic.com/images?q=tbn:ANd9GcQMTS9cVKbWSBLMHxEY0fflsDo6Oa5enudMxqYxZkCezIY1mLH4"/>
          <p:cNvPicPr/>
          <p:nvPr/>
        </p:nvPicPr>
        <p:blipFill>
          <a:blip r:embed="rId1"/>
          <a:stretch/>
        </p:blipFill>
        <p:spPr>
          <a:xfrm>
            <a:off x="7451640" y="115920"/>
            <a:ext cx="1567080" cy="1476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179280" y="212760"/>
            <a:ext cx="172872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am memo challa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e the grids given to your (1 per team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You have 5 minutes to note down as many specific expressions you learnt-used during the ga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fter 5 minutes pass your sheet to the next gro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 points per correct express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1 point if the expression includes mistakes * ask your teacher to validate mistakes for you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he winning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otal your collective points won during the first roun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dd 2 points per expression memorized and validated during the correc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 rot="16200000">
            <a:off x="1132560" y="-1412280"/>
            <a:ext cx="6551640" cy="932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0T11:11:12Z</dcterms:created>
  <dc:creator>KENWRIGHT John Francis</dc:creator>
  <dc:description/>
  <dc:language>en-US</dc:language>
  <cp:lastModifiedBy>KENWRIGHT John Francis</cp:lastModifiedBy>
  <cp:lastPrinted>2014-02-10T11:30:27Z</cp:lastPrinted>
  <dcterms:modified xsi:type="dcterms:W3CDTF">2014-02-23T22:33:03Z</dcterms:modified>
  <cp:revision>9</cp:revision>
  <dc:subject/>
  <dc:title>Présentation PowerPoint</dc:title>
</cp:coreProperties>
</file>